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07B9-C539-4062-BDA7-5B18008E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C276-323F-4297-B540-0086A90E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044-BBCF-4E48-BA3B-A3087353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00F-3C3B-4225-A6B8-FC61FDE0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98B9-49E5-430F-A07C-24F5232E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B25-AA53-4D8E-9D5A-D57672B3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1059-3495-4432-A674-B763F856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1FC-2B43-42FF-972A-FDB0137F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04AA-8CA4-430C-BB20-15623FFB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B27-1D8D-498E-8671-CDA136FA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BFCA-6173-4A28-801E-784B2605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6C40-E751-474B-B560-C7A01B29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70AB-C773-470A-984F-02D7BD5C8E1F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9840" y="1380960"/>
            <a:ext cx="8364600" cy="5450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560" y="1620720"/>
            <a:ext cx="5639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Expected ship call (pre-arriva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760" y="1089000"/>
            <a:ext cx="8269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Verdana"/>
              </a:rPr>
              <a:t>&gt;M.S D.Pr.  application&gt;Notify/update expected ship call&gt;</a:t>
            </a:r>
            <a:r>
              <a:rPr b="1" lang="en-GB" sz="1000" spc="-1" strike="noStrike">
                <a:solidFill>
                  <a:srgbClr val="ff9933"/>
                </a:solidFill>
                <a:latin typeface="Verdana"/>
              </a:rPr>
              <a:t>Step 2: Expected ship call (pre-arriva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35400" y="224784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3280" y="2238480"/>
            <a:ext cx="28447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4760" y="260028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as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86040" y="263196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86040" y="2612880"/>
            <a:ext cx="6699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GSI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86040" y="2860560"/>
            <a:ext cx="130788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6040" y="2828880"/>
            <a:ext cx="130788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6/2009 1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93920" y="2876400"/>
            <a:ext cx="50796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35280" y="2631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2627280"/>
            <a:ext cx="1308240" cy="231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4/7/2009 15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2876400"/>
            <a:ext cx="1308240" cy="231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7/2009 </a:t>
            </a:r>
            <a:r>
              <a:rPr b="1" lang="en-US" sz="900" spc="-1" strike="noStrike">
                <a:solidFill>
                  <a:srgbClr val="3333cc"/>
                </a:solidFill>
                <a:latin typeface="Verdana"/>
              </a:rPr>
              <a:t>2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90600" y="312120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xpected Positio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35280" y="3121200"/>
            <a:ext cx="43927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6240" y="265104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263844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2647800"/>
            <a:ext cx="6699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EH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6240" y="26370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1976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19760" y="2876400"/>
            <a:ext cx="145260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0/7/2009 1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35280" y="3102120"/>
            <a:ext cx="4392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15 char subsidiary LOCODE or free text entry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3280" y="2222640"/>
            <a:ext cx="284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69080" y="616572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96360" y="5842080"/>
            <a:ext cx="7063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560" y="5827680"/>
            <a:ext cx="400068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560" y="5884920"/>
            <a:ext cx="36338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4 hours before arrival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129360"/>
            <a:ext cx="1589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rsons on boar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3760" y="6119640"/>
            <a:ext cx="67320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</a:rPr>
              <a:t>2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7340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0204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72080" y="5827680"/>
            <a:ext cx="273060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72080" y="5875200"/>
            <a:ext cx="281916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azmat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 arriving from a non EU port carrying dangerous good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43520" y="6373800"/>
            <a:ext cx="23335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nter / update Hazmat inf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84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049400" y="2247840"/>
            <a:ext cx="3186000" cy="246240"/>
            <a:chOff x="1049400" y="2247840"/>
            <a:chExt cx="3186000" cy="246240"/>
          </a:xfrm>
        </p:grpSpPr>
        <p:sp>
          <p:nvSpPr>
            <p:cNvPr id="88" name=""/>
            <p:cNvSpPr/>
            <p:nvPr/>
          </p:nvSpPr>
          <p:spPr>
            <a:xfrm>
              <a:off x="1049400" y="224784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16080" y="226368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16080" y="224784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CARO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 rot="19105800">
            <a:off x="4664160" y="2392200"/>
            <a:ext cx="1085760" cy="349560"/>
          </a:xfrm>
          <a:prstGeom prst="leftArrow">
            <a:avLst>
              <a:gd name="adj1" fmla="val 50000"/>
              <a:gd name="adj2" fmla="val 77652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7896000"/>
          </a:gra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06520" y="3365640"/>
            <a:ext cx="7866000" cy="2368440"/>
            <a:chOff x="506520" y="3365640"/>
            <a:chExt cx="7866000" cy="2368440"/>
          </a:xfrm>
        </p:grpSpPr>
        <p:sp>
          <p:nvSpPr>
            <p:cNvPr id="93" name=""/>
            <p:cNvSpPr/>
            <p:nvPr/>
          </p:nvSpPr>
          <p:spPr>
            <a:xfrm>
              <a:off x="511200" y="3365640"/>
              <a:ext cx="7861320" cy="236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6880" y="4106880"/>
              <a:ext cx="16016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xpected to birth at anchorage?  (Y/N)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2440" y="3670200"/>
              <a:ext cx="15890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      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configuration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95560" y="3670200"/>
              <a:ext cx="1374840" cy="550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For tankers)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Nature and volume of cargo: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90600" y="4106880"/>
              <a:ext cx="673200" cy="5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90600" y="3670200"/>
              <a:ext cx="6732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H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02240" y="3670200"/>
              <a:ext cx="341784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36960" y="4314960"/>
              <a:ext cx="1374840" cy="4777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All ships)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Planned works 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08360" y="4272120"/>
              <a:ext cx="341964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63760" y="4846680"/>
              <a:ext cx="215892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All ships)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Planned operations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00440" y="4846680"/>
              <a:ext cx="3419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6520" y="3416400"/>
              <a:ext cx="658152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(3-days before arrival) PSC inspection information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Verdana"/>
                </a:rPr>
                <a:t>(All ships bound for extended inspection)</a:t>
              </a: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47040" y="3416400"/>
              <a:ext cx="51732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av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64200" y="3416400"/>
              <a:ext cx="62388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Rese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4880" y="5187960"/>
              <a:ext cx="215892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All ships)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onditions of cargo and ballast tanks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62440" y="5329080"/>
              <a:ext cx="5057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7450200" y="6489720"/>
            <a:ext cx="850680" cy="2156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rint/ expor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9671000">
            <a:off x="2960640" y="5662080"/>
            <a:ext cx="903240" cy="444600"/>
          </a:xfrm>
          <a:prstGeom prst="leftArrow">
            <a:avLst>
              <a:gd name="adj1" fmla="val 46157"/>
              <a:gd name="adj2" fmla="val 62631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7332000"/>
          </a:gra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6616800"/>
            <a:ext cx="28018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cc3300"/>
                </a:solidFill>
                <a:latin typeface="Verdana"/>
              </a:rPr>
              <a:t>* Mandatory field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05520" y="1803240"/>
            <a:ext cx="23335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ancel Expected Ship Cal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77080" y="1784520"/>
            <a:ext cx="2385720" cy="285480"/>
          </a:xfrm>
          <a:prstGeom prst="rect">
            <a:avLst/>
          </a:prstGeom>
          <a:noFill/>
          <a:ln w="22320">
            <a:solidFill>
              <a:srgbClr val="00ff00"/>
            </a:solidFill>
            <a:prstDash val="sysDot"/>
            <a:miter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395800">
            <a:off x="7856280" y="980640"/>
            <a:ext cx="6746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Wingdings"/>
                <a:ea typeface="Wingdings"/>
              </a:rPr>
              <a:t>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remove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5.18519E-006 L -0.01962 0.03149 E">
                                      <p:cBhvr>
                                        <p:cTn id="20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3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39840" y="1380960"/>
            <a:ext cx="8364600" cy="5450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560" y="1620720"/>
            <a:ext cx="5639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Expected ship call (pre-arriva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4760" y="1089000"/>
            <a:ext cx="8269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Verdana"/>
              </a:rPr>
              <a:t>&gt;M.S D.Pr.  application&gt;Notify/update expected ship call&gt;</a:t>
            </a:r>
            <a:r>
              <a:rPr b="1" lang="en-GB" sz="1000" spc="-1" strike="noStrike">
                <a:solidFill>
                  <a:srgbClr val="ff9933"/>
                </a:solidFill>
                <a:latin typeface="Verdana"/>
              </a:rPr>
              <a:t>Step 2: Expected ship call (pre-arriva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35400" y="224784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3280" y="2238480"/>
            <a:ext cx="28447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4760" y="260028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as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86040" y="263196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86040" y="2612880"/>
            <a:ext cx="6699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GSI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86040" y="2860560"/>
            <a:ext cx="130788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86040" y="2828880"/>
            <a:ext cx="130788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6/2009 1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93920" y="2876400"/>
            <a:ext cx="50796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2631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3528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2627280"/>
            <a:ext cx="130824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4/7/2009 15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2876400"/>
            <a:ext cx="130824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7/2009 2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90600" y="312120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xpected Positio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35280" y="3121200"/>
            <a:ext cx="43927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6240" y="265104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263844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32720" y="2647800"/>
            <a:ext cx="6699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EH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6240" y="26370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1976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19760" y="2876400"/>
            <a:ext cx="145260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0/7/2009 1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35280" y="3102120"/>
            <a:ext cx="4392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15 char subsidiary LOCODE or free text entry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3280" y="2222640"/>
            <a:ext cx="284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69080" y="62802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96360" y="5956200"/>
            <a:ext cx="7063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560" y="5827680"/>
            <a:ext cx="400068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560" y="5884920"/>
            <a:ext cx="36338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4 hours before arrival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129360"/>
            <a:ext cx="1589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rsons on boar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3760" y="6119640"/>
            <a:ext cx="673200" cy="24624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7340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0204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72080" y="5827680"/>
            <a:ext cx="273060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72080" y="5875200"/>
            <a:ext cx="281916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azmat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 arriving from a non EU port carrying dangerous good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43520" y="6373800"/>
            <a:ext cx="23335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nter / update Hazmat inf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472000" y="1671480"/>
            <a:ext cx="2687400" cy="246240"/>
            <a:chOff x="5472000" y="1671480"/>
            <a:chExt cx="2687400" cy="246240"/>
          </a:xfrm>
        </p:grpSpPr>
        <p:sp>
          <p:nvSpPr>
            <p:cNvPr id="158" name=""/>
            <p:cNvSpPr/>
            <p:nvPr/>
          </p:nvSpPr>
          <p:spPr>
            <a:xfrm>
              <a:off x="5472000" y="16714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49960" y="17031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84880" y="16840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Verdana"/>
                </a:rPr>
                <a:t>ZZCAN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049400" y="2247840"/>
            <a:ext cx="3186000" cy="246240"/>
            <a:chOff x="1049400" y="2247840"/>
            <a:chExt cx="3186000" cy="246240"/>
          </a:xfrm>
        </p:grpSpPr>
        <p:sp>
          <p:nvSpPr>
            <p:cNvPr id="162" name=""/>
            <p:cNvSpPr/>
            <p:nvPr/>
          </p:nvSpPr>
          <p:spPr>
            <a:xfrm>
              <a:off x="1049400" y="224784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16080" y="226368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16080" y="224784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CARO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06520" y="3365640"/>
            <a:ext cx="7866000" cy="2368440"/>
            <a:chOff x="506520" y="3365640"/>
            <a:chExt cx="7866000" cy="2368440"/>
          </a:xfrm>
        </p:grpSpPr>
        <p:sp>
          <p:nvSpPr>
            <p:cNvPr id="166" name=""/>
            <p:cNvSpPr/>
            <p:nvPr/>
          </p:nvSpPr>
          <p:spPr>
            <a:xfrm>
              <a:off x="511200" y="3365640"/>
              <a:ext cx="7861320" cy="236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6880" y="4106880"/>
              <a:ext cx="16016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xpected to birth at anchorage?  (Y/N)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2440" y="3670200"/>
              <a:ext cx="15890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      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configuration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95560" y="3670200"/>
              <a:ext cx="1374840" cy="550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For tankers)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Nature and volume of cargo: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90600" y="4106880"/>
              <a:ext cx="673200" cy="5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90600" y="3670200"/>
              <a:ext cx="6732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H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02240" y="3670200"/>
              <a:ext cx="341784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36960" y="4314960"/>
              <a:ext cx="1374840" cy="4777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All ships)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Planned works 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08360" y="4272120"/>
              <a:ext cx="341964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63760" y="4846680"/>
              <a:ext cx="215892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All ships)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Planned operations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00440" y="4846680"/>
              <a:ext cx="3419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6520" y="3416400"/>
              <a:ext cx="658152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(3-days before arrival) PSC inspection information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Verdana"/>
                </a:rPr>
                <a:t>(All ships bound for extended inspection)</a:t>
              </a: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47040" y="3416400"/>
              <a:ext cx="51732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av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64200" y="3416400"/>
              <a:ext cx="62388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Rese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4880" y="5187960"/>
              <a:ext cx="215892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All ships)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onditions of cargo and ballast tanks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62440" y="5329080"/>
              <a:ext cx="5057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900000" y="6616800"/>
            <a:ext cx="28018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808080"/>
                </a:solidFill>
                <a:latin typeface="Verdana"/>
              </a:rPr>
              <a:t>* Mandatory field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62600">
            <a:off x="8172000" y="4960440"/>
            <a:ext cx="623880" cy="866880"/>
          </a:xfrm>
          <a:prstGeom prst="downArrow">
            <a:avLst>
              <a:gd name="adj1" fmla="val 50000"/>
              <a:gd name="adj2" fmla="val 34737"/>
            </a:avLst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69360" y="5956200"/>
            <a:ext cx="755640" cy="244440"/>
          </a:xfrm>
          <a:prstGeom prst="rect">
            <a:avLst/>
          </a:prstGeom>
          <a:noFill/>
          <a:ln w="22320">
            <a:solidFill>
              <a:srgbClr val="00ff00"/>
            </a:solidFill>
            <a:prstDash val="sysDot"/>
            <a:miter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13600" y="1679400"/>
            <a:ext cx="1058760" cy="244800"/>
          </a:xfrm>
          <a:prstGeom prst="rect">
            <a:avLst/>
          </a:prstGeom>
          <a:noFill/>
          <a:ln w="22320">
            <a:solidFill>
              <a:srgbClr val="00ff00"/>
            </a:solidFill>
            <a:prstDash val="sysDot"/>
            <a:miter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62600">
            <a:off x="8015040" y="836280"/>
            <a:ext cx="623880" cy="866880"/>
          </a:xfrm>
          <a:prstGeom prst="downArrow">
            <a:avLst>
              <a:gd name="adj1" fmla="val 50000"/>
              <a:gd name="adj2" fmla="val 34737"/>
            </a:avLst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 repeatCount="6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2 -0.04213 L 2.22222E-006 -4.07407E-006 E">
                                      <p:cBhvr>
                                        <p:cTn id="52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 repeatCount="6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2 -0.04213 L 2.22222E-006 -4.07407E-006 E">
                                      <p:cBhvr>
                                        <p:cTn id="62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FIAMMA Lorenzo</cp:lastModifiedBy>
  <cp:lastPrinted>2004-03-26T09:05:49Z</cp:lastPrinted>
  <dcterms:modified xsi:type="dcterms:W3CDTF">2009-04-16T11:41:40Z</dcterms:modified>
  <cp:revision>380</cp:revision>
  <dc:subject/>
  <dc:title>Slide 1</dc:title>
</cp:coreProperties>
</file>